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E18-0790-4BCD-BCC5-3ECBDF78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5C1-9826-44D3-B1D0-C60A8D96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6D2-92E9-4394-99A3-0E96C6D2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33C-5E88-4AA2-8454-48703D55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39B-944E-4787-8CA3-E68B8371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6E6-137E-4796-9690-53CB384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FB1-6FD8-492B-8F77-FDA9B47D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BD7-8E13-47CB-9D0D-B83D90CA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0A5-1F00-4FE4-B1F8-7E7CAF7C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285-5935-406D-B409-1C0E2293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49D-91B1-4D86-9737-D6EDBC79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DDE-D146-43D4-9CDF-93FEAEC9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C6D2-719A-445D-81D0-EB4589B2E33A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grtframe"/>
          <p:cNvPicPr/>
          <p:nvPr/>
        </p:nvPicPr>
        <p:blipFill>
          <a:blip r:embed="rId1"/>
          <a:stretch/>
        </p:blipFill>
        <p:spPr>
          <a:xfrm>
            <a:off x="374760" y="4680"/>
            <a:ext cx="839448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374440" y="1677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720040" y="1814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061320" y="1957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635880" y="2201760"/>
            <a:ext cx="20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842000" y="1460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489560" y="1987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186440" y="2478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707760" y="477720"/>
            <a:ext cx="24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Regions (FIP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1, 4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grtframe"/>
          <p:cNvPicPr/>
          <p:nvPr/>
        </p:nvPicPr>
        <p:blipFill>
          <a:blip r:embed="rId1"/>
          <a:stretch/>
        </p:blipFill>
        <p:spPr>
          <a:xfrm>
            <a:off x="374760" y="4680"/>
            <a:ext cx="839448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374440" y="1677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720040" y="1814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061320" y="1957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635880" y="2201760"/>
            <a:ext cx="20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842000" y="1460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489560" y="1987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4186440" y="2478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707760" y="477720"/>
            <a:ext cx="24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Regions (FIP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1, 4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511320" y="1581120"/>
            <a:ext cx="2619000" cy="4510080"/>
          </a:xfrm>
          <a:prstGeom prst="rect">
            <a:avLst/>
          </a:prstGeom>
          <a:solidFill>
            <a:srgbClr val="f2f2f2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fname   i1 i2  j1 j2 k1 k2 d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 7  7   9  9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 7  7   9  9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 8  8  10 10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 8  8  10 12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 9  9  13 13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 9  9  13 15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0 10  16 16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0 10  16 18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1 11  19 19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1 11  19 20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2 12  21 21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2 12  21 28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3 13  29 29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3 13  29 29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4 15  30 30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5 15  30 30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6 18  31 31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8 18  31 31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19 21  32 32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21 21  32 32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22 24  33 33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24 24  33 33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25 27  34 34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27 27  34 34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1  28 30  35 35  1 6  Y-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n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t2   8  8  35 48  1 6  X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b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grtframe"/>
          <p:cNvPicPr/>
          <p:nvPr/>
        </p:nvPicPr>
        <p:blipFill>
          <a:blip r:embed="rId1"/>
          <a:stretch/>
        </p:blipFill>
        <p:spPr>
          <a:xfrm>
            <a:off x="374760" y="4680"/>
            <a:ext cx="839448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374440" y="1677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720040" y="1814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061320" y="1957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635880" y="2201760"/>
            <a:ext cx="20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842000" y="1460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489560" y="1987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186440" y="2478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707760" y="477720"/>
            <a:ext cx="24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Regions (FIP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1, 4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410160" y="2925720"/>
            <a:ext cx="2733840" cy="3291840"/>
          </a:xfrm>
          <a:prstGeom prst="rect">
            <a:avLst/>
          </a:prstGeom>
          <a:solidFill>
            <a:srgbClr val="f2f2f2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nb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3000*1 3000*2 3000*3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 7   9  9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 8  10 12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 9  13 15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10  16 18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11  19 20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12  21 28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13  29 29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15  30 30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18  31 31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21  32 32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24  33 33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27  34 34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4  1 30  35 50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7  1  7   9  9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7  1  8  10 50   1 2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IPNUM 10 1  2   1  1   1 1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Øystein Pettersen</cp:lastModifiedBy>
  <dcterms:modified xsi:type="dcterms:W3CDTF">2014-03-31T07:30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